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D7F-342E-4847-9898-85C3F8BA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65CC-A9BD-4862-9792-CDB4DB97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A9E-256C-4805-AA4D-52CEECAB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74B-A20D-4E03-97DD-6A7E3DD1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7ECC-4E39-41DA-8D30-0B6AC3C4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741F-7B3C-4EFD-8553-FD4DF67A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1D92-0EDF-4613-AF14-545EDCC2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904E-5A59-48CD-A36B-AF7DEAA1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B177-7839-4EBC-9EF0-D1DA31BD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B3DA-8296-47AA-8964-BE9CD1A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0C2-55F4-493C-B0FD-22AE3B4B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4C8-9F7C-4734-A095-4D4C59AF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709C-75DD-4FEC-8731-DB5915FD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03B6-9F75-49EB-A5ED-3414C80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17A8-1BEB-480D-88C4-414F4C01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B58F-131D-40AE-804B-6B79A5F2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9047-6254-45F7-95FE-A067D529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BCC-F49A-4BCA-AB4C-3463FEEB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4C2A-562E-4E91-91D5-6A2503F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041-D423-43E9-84DC-13C326F5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F0B-D262-42EB-8B62-0147F920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B9D5-76ED-4102-BF69-C2E9EA07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AF39-93A2-4107-AE76-F68641FD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7F3C-6397-4034-9D28-DBBF659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E773-D04D-4FA1-A1AB-53D07445E3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89BE-0898-49F5-874C-E3CC493637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Arial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24 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января 200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аспи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484280"/>
          <a:ext cx="8785440" cy="660708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lu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425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Распределение аспирантов, обучающихся за счет средств ФБ по отраслям науки и специальностям в 200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9280" y="1268280"/>
          <a:ext cx="8802720" cy="586764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Подготовка высококвалифицированных кадров (докторантура) в 2006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341360"/>
          <a:ext cx="8229600" cy="510228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Эффективность деятельности диссертационных советов в 200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здательская деятельность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050920" y="1125360"/>
          <a:ext cx="5040360" cy="558828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Минобрнауки Ро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другими грифа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lus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Распределение тем по кол-ву и объему </a:t>
            </a:r>
            <a:br>
              <a:rPr sz="2800"/>
            </a:b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с 2002 по 2006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1413000"/>
          <a:ext cx="8580240" cy="4771800"/>
        </p:xfrm>
        <a:graphic>
          <a:graphicData uri="http://schemas.openxmlformats.org/drawingml/2006/table">
            <a:tbl>
              <a:tblPr/>
              <a:tblGrid>
                <a:gridCol w="1512720"/>
                <a:gridCol w="504720"/>
                <a:gridCol w="935280"/>
                <a:gridCol w="504720"/>
                <a:gridCol w="934920"/>
                <a:gridCol w="505080"/>
                <a:gridCol w="874440"/>
                <a:gridCol w="493920"/>
                <a:gridCol w="934920"/>
                <a:gridCol w="505080"/>
                <a:gridCol w="874440"/>
              </a:tblGrid>
              <a:tr h="2764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7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Распределение тем по факультетам за период с 2002 по 2006 г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50920" y="1700280"/>
          <a:ext cx="8605800" cy="5159160"/>
        </p:xfrm>
        <a:graphic>
          <a:graphicData uri="http://schemas.openxmlformats.org/drawingml/2006/table">
            <a:tbl>
              <a:tblPr/>
              <a:tblGrid>
                <a:gridCol w="1476360"/>
                <a:gridCol w="468360"/>
                <a:gridCol w="900000"/>
                <a:gridCol w="503280"/>
                <a:gridCol w="936720"/>
                <a:gridCol w="504720"/>
                <a:gridCol w="934920"/>
                <a:gridCol w="504720"/>
                <a:gridCol w="935280"/>
                <a:gridCol w="504720"/>
                <a:gridCol w="936720"/>
              </a:tblGrid>
              <a:tr h="3603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-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8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658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53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66ff"/>
                </a:solidFill>
                <a:latin typeface="Arial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ерспективы инновационного развития РГГМ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ректо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.Н. Карл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учная деятельность университета в 200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оректор по НР,   В.Н. Воробь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румин Г.Т. (профессор) –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ценка состояния Невской губы по гидрохимическим и биохимическим показа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урзенева Е.В. (доцент кафедры метеопрогнозов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гностическая модель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IRLAM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и ее реализация в научно-образовательном процес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арлин Л.Н. (профессор), Дикинис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временные проблемы экологической безопасности в стратегии долгосрочного развития Санкт-Петербур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икан А.В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ониторинг трансграничных водных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Бескид П.П. (профессор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построения регионального экологического мониторинг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Сердитова Н.Е. (доцент) 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Экономика природопользования: эколого-экономический аспект.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Научная деятельность университета в 200</a:t>
            </a:r>
            <a:r>
              <a:rPr b="1" lang="en-US" sz="3600" spc="-1" strike="noStrike">
                <a:solidFill>
                  <a:srgbClr val="ff66ff"/>
                </a:solidFill>
                <a:latin typeface="Arial Unicode MS"/>
              </a:rPr>
              <a:t>6</a:t>
            </a:r>
            <a:r>
              <a:rPr b="1" lang="ru-RU" sz="3600" spc="-1" strike="noStrike">
                <a:solidFill>
                  <a:srgbClr val="ff66ff"/>
                </a:solidFill>
                <a:latin typeface="Arial Unicode MS"/>
              </a:rPr>
              <a:t> го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324000" y="6093000"/>
          <a:ext cx="485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93000"/>
                    <a:ext cx="485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68360" y="1052640"/>
          <a:ext cx="8232840" cy="5640120"/>
        </p:xfrm>
        <a:graphic>
          <a:graphicData uri="http://schemas.openxmlformats.org/drawingml/2006/table">
            <a:tbl>
              <a:tblPr/>
              <a:tblGrid>
                <a:gridCol w="441000"/>
                <a:gridCol w="6164640"/>
                <a:gridCol w="141192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народные прое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Arial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116000" y="1125360"/>
          <a:ext cx="7129440" cy="60375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8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44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141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нт президента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1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одные сведения о выполнении НИР в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1197000"/>
          <a:ext cx="8302680" cy="521496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36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19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5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9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ер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4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а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ственные средства В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mb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85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8000" y="1557360"/>
          <a:ext cx="883440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217440"/>
                <a:gridCol w="648000"/>
                <a:gridCol w="287280"/>
                <a:gridCol w="647640"/>
                <a:gridCol w="217440"/>
                <a:gridCol w="574560"/>
                <a:gridCol w="289080"/>
                <a:gridCol w="684000"/>
                <a:gridCol w="179640"/>
                <a:gridCol w="649080"/>
                <a:gridCol w="287640"/>
                <a:gridCol w="554040"/>
                <a:gridCol w="28872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4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46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7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0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2 19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4 3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4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49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 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3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87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15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Сведения по НИР за 200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6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год (по факультетам, кафедрам РГГ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476280"/>
          <a:ext cx="8424720" cy="7219800"/>
        </p:xfrm>
        <a:graphic>
          <a:graphicData uri="http://schemas.openxmlformats.org/drawingml/2006/table">
            <a:tbl>
              <a:tblPr/>
              <a:tblGrid>
                <a:gridCol w="1079280"/>
                <a:gridCol w="3240000"/>
                <a:gridCol w="1657440"/>
                <a:gridCol w="2448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д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т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К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х 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7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Ф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О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физики и гидропрогноз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и суш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метр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дезии и гидроге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П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 ОП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17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7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ладной эколог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7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н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и и менеджмен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.-гуманитарных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соц-гум. 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кафедр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8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50 21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Участие в выставках и конференциях в 2006 г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тавки, всего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том числе международные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спонаты, представленные на выставках,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ференции –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м числе международные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 базе вуза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мии, дипломы, награды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8T10:16:42Z</dcterms:modified>
  <cp:revision>263</cp:revision>
  <dc:subject/>
  <dc:title>Итоговая сессия Ученого совета РГГМУ</dc:title>
</cp:coreProperties>
</file>